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E0E-37B6-488F-9F3A-BEE37617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A53-8C6D-46B3-B278-B91AE62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16F-61D2-465D-B346-E9FD79EE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924-570A-4574-B98E-8AD02519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3B77-523E-4DF3-B356-507031C5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DADF-607D-4D20-BE93-C3E0ED27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388C-509C-4399-AF34-F522BD61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5C29-F67C-4C32-9440-C13C80B7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1CB0-C850-4095-A1D5-1CF5A9DB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6F82-1DB6-4C32-8CD4-2F147B7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D943-7739-4DA3-BD68-694B53A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F60-4D22-4A7D-B8F2-A56A71A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3425-312C-431E-AC76-0A1546BA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8C34-F259-4F06-B998-27ED9EB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647C-5B17-419E-88D2-1B98B14E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6B51-A2D5-45C4-974E-90FB7161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D981-F238-470E-8868-F759EDAB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7D6-251D-437E-8769-6C64ABC1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3B7-53BE-4A63-BA05-38CD41B8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CEF-480A-4FCB-8E8E-806AADD4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1A3-6436-43A1-AD32-8893D702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3C2-F8F8-412E-BDE5-1845A031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8D0-CEFC-4AA7-ADA4-0F2B9A9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A3E-4DF9-4E2C-86CE-611A2811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386A-2F86-405F-B2D6-03C68606E88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2E4D-E63E-4708-A71D-4544BFB0B74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Karl  Marx 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341360"/>
            <a:ext cx="7696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fore long (Par.2—L3) ;  s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hospital will be set up in my home town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789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这本书很快就要写完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724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ook will be finished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105264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keep on doing (Par.4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eep on trying, and you’ll make greater progres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3577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宋体"/>
              </a:rPr>
              <a:t>他在会上一言不发，只是一个劲地抽烟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0536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didn't say anything a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eting but kept on smokin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4842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. in one’s fifties (Par.5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Both my parents are in their seventies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382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四十多岁时当上了校长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43700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became the headmistress i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ti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4479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 be sure of /about (Par.3—L1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sure of /about the dat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314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我说不准他的电话号码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9264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not sure of his telephone nu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447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 translate…into…(Par.6—L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late the following sent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o English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6878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的书已经被译成了好几种语言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4365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book has been translated into several languag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3280" y="1052640"/>
            <a:ext cx="7238880" cy="1477080"/>
            <a:chOff x="1403280" y="1052640"/>
            <a:chExt cx="7238880" cy="1477080"/>
          </a:xfrm>
        </p:grpSpPr>
        <p:sp>
          <p:nvSpPr>
            <p:cNvPr id="187" name=""/>
            <p:cNvSpPr/>
            <p:nvPr/>
          </p:nvSpPr>
          <p:spPr>
            <a:xfrm>
              <a:off x="1479600" y="1052640"/>
              <a:ext cx="71625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sth.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  (dialogue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it 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+ to d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328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00000" y="270828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listening really difficult for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English idioms har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e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sth.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(dialogu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it 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+ to 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fin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interesting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lk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eigner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think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necessar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ell h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tr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184464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26920" y="1052640"/>
            <a:ext cx="7620120" cy="1384200"/>
            <a:chOff x="826920" y="1052640"/>
            <a:chExt cx="7620120" cy="1384200"/>
          </a:xfrm>
        </p:grpSpPr>
        <p:sp>
          <p:nvSpPr>
            <p:cNvPr id="195" name=""/>
            <p:cNvSpPr/>
            <p:nvPr/>
          </p:nvSpPr>
          <p:spPr>
            <a:xfrm>
              <a:off x="903240" y="1052640"/>
              <a:ext cx="75438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o…+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adj./adv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  (Par.2—L3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uch…+ 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n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92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00000" y="2852640"/>
            <a:ext cx="7620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book is so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goo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read it ag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such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good boo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to read it agai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765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起得太晚了结果没赶上校车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4842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got up so late that she miss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chool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3141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他是个非常马虎的人，经常丢钥匙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3933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is such a careless person 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often loses his key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90792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变化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good a book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at I wa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ad it ag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如果没有冠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则不能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变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1474920"/>
            <a:ext cx="6248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Unit 21   Karl  Mar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二讲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71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例：与“多少”连用时，只能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 + many / much / little / few +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ere were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many peopl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on the bu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at I could hardly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55736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Was the job difficul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I found it quite ___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easily     B. har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easy       D. hard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2349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1197000"/>
            <a:ext cx="754380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Which of the following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another way of say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use ... freel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et                 B. mast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understand    D. cat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5334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7467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He began to work as a doctor i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the twenty    B. the twent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his twenty     D. his twen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2666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1197000"/>
            <a:ext cx="7620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He has made _____ that we are al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rpris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such great progres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such a great prog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o great progress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so great a progr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1197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733400"/>
            <a:ext cx="7467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Could you give me some advi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 how to impr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of     B. on     C. in     D. f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557360"/>
            <a:ext cx="8076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----Did you see Jack at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he___ by the time I___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had left; got         B. left; had got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was leaving; g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had left; ha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916360" y="2349360"/>
            <a:ext cx="3961800" cy="642600"/>
            <a:chOff x="2916360" y="2349360"/>
            <a:chExt cx="3961800" cy="642600"/>
          </a:xfrm>
        </p:grpSpPr>
        <p:sp>
          <p:nvSpPr>
            <p:cNvPr id="222" name=""/>
            <p:cNvSpPr/>
            <p:nvPr/>
          </p:nvSpPr>
          <p:spPr>
            <a:xfrm>
              <a:off x="291636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500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333360"/>
            <a:ext cx="883944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What do you find hardest i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glish?          (listen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Why do you think it is hard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 speak fast, can’t understan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Have you ever got high gr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n    listening test?      (neve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692280"/>
            <a:ext cx="883908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How would you like to improve it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listen to some English tape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ch English program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n TV, practice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wn pronunci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do you think of the      result of   your effort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4130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have a talk with (P25--L1);  talk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a rest = res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ke a walk = wal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 a visit = vis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653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/ May I have a talk with you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76520" y="1371600"/>
            <a:ext cx="655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28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268280"/>
            <a:ext cx="761976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come across (P25--L1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with; happen to meet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by acci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reading the stor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came across the word many tim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两天我在车上遇到我以前的一个同学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other day I came across a former classmate of mine on the bu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844640"/>
            <a:ext cx="762012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force somebody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Par.1—L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ake sb.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didn’t want to go, but they forc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e to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10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他不愿意做就不要强迫他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force him to do it if he doesn'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 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e sb.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, but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b. be made to d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was made to work overtime by his bos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815328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make progress (Par.2—L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progres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可数，不用冠词，但可加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容词修饰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ood/great/much progres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429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ive advice on (Par.6—L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dv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可数，不用冠词，但可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y parents often gave me some ad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how to get along with other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8:04:24Z</dcterms:created>
  <dc:creator>User</dc:creator>
  <dc:description/>
  <dc:language>en-US</dc:language>
  <cp:lastModifiedBy>Zhang Lingdi</cp:lastModifiedBy>
  <dcterms:modified xsi:type="dcterms:W3CDTF">2003-06-10T14:21:17Z</dcterms:modified>
  <cp:revision>70</cp:revision>
  <dc:subject/>
  <dc:title>PowerPoint 演示文稿</dc:title>
</cp:coreProperties>
</file>